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4A81-15B6-4C3C-B8AF-808057FA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0993-73A6-45DA-A544-8F99274A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AC91-6C00-4996-AF4E-39283A5F5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0BFF-7C5C-4E2E-874D-C3E55A49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347B-81AC-4E97-9D54-225D72B7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5759-998B-4787-AD2D-2BF3A7C0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23B2-5200-41AD-8543-A15A04D4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7DE8-2557-4064-A822-7459EC73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62E0-6282-457F-A3AA-3583F124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0EBC-375B-4253-AC54-B5622A80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E06F-22E8-4AA0-A54F-EAB1AA8C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D8FA-03C1-4C5A-BED6-2BD75EE1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A281-B0CF-4805-A6ED-EFF43F9199C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Process modelling and optimization 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FONTEIX Chris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fessor of Chemic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iversity of Lor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actions and Process Engineer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"/>
          <p:cNvPicPr/>
          <p:nvPr/>
        </p:nvPicPr>
        <p:blipFill>
          <a:blip r:embed="rId1"/>
          <a:stretch/>
        </p:blipFill>
        <p:spPr>
          <a:xfrm>
            <a:off x="714240" y="714240"/>
            <a:ext cx="2170080" cy="85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4537080" y="428760"/>
            <a:ext cx="892080" cy="1153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7072200" y="519120"/>
            <a:ext cx="12924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r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21"/>
          <p:cNvSpPr/>
          <p:nvPr/>
        </p:nvSpPr>
        <p:spPr>
          <a:xfrm>
            <a:off x="533520" y="1928880"/>
            <a:ext cx="80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 : modelling of polymer blend young mod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fter model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85920" y="2838600"/>
          <a:ext cx="6786360" cy="3805200"/>
        </p:xfrm>
        <a:graphic>
          <a:graphicData uri="http://schemas.openxmlformats.org/drawingml/2006/table">
            <a:tbl>
              <a:tblPr/>
              <a:tblGrid>
                <a:gridCol w="1058760"/>
                <a:gridCol w="974880"/>
                <a:gridCol w="1100160"/>
                <a:gridCol w="952560"/>
                <a:gridCol w="946080"/>
                <a:gridCol w="947520"/>
                <a:gridCol w="806400"/>
              </a:tblGrid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ici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ues o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.5473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9.9100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5.1847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.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4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7.07366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16.55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.4030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2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1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79.767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91.19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6627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16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43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16.8218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79.995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.3521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48.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5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229223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5.32628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.7847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.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5.70816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13.6775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.26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18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.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755212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47.1309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2.6413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.49864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4.98385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1.9811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.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.1430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8.2475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6.5336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.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.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Object 8"/>
          <p:cNvGraphicFramePr/>
          <p:nvPr/>
        </p:nvGraphicFramePr>
        <p:xfrm>
          <a:off x="4572000" y="2857680"/>
          <a:ext cx="214200" cy="29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857680"/>
                    <a:ext cx="214200" cy="29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Picture 7" descr=""/>
          <p:cNvPicPr/>
          <p:nvPr/>
        </p:nvPicPr>
        <p:blipFill>
          <a:blip r:embed="rId3"/>
          <a:stretch/>
        </p:blipFill>
        <p:spPr>
          <a:xfrm>
            <a:off x="3643200" y="2857680"/>
            <a:ext cx="173160" cy="252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4"/>
          <a:stretch/>
        </p:blipFill>
        <p:spPr>
          <a:xfrm>
            <a:off x="3112920" y="2890800"/>
            <a:ext cx="173160" cy="252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5"/>
          <a:stretch/>
        </p:blipFill>
        <p:spPr>
          <a:xfrm>
            <a:off x="5643720" y="2857680"/>
            <a:ext cx="345960" cy="309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6"/>
          <a:stretch/>
        </p:blipFill>
        <p:spPr>
          <a:xfrm>
            <a:off x="6572160" y="2857680"/>
            <a:ext cx="358920" cy="30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r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17"/>
              <p:cNvSpPr txBox="1"/>
              <p:nvPr/>
            </p:nvSpPr>
            <p:spPr>
              <a:xfrm>
                <a:off x="1828800" y="2133720"/>
                <a:ext cx="5264280" cy="20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rPr>
                            <m:lit/>
                            <m:nor/>
                          </m:rPr>
                          <m:t xml:space="preserve">ediction</m:t>
                        </m:r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: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u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</m:e>
                      <m:e>
                        <m:r>
                          <m:t xml:space="preserve">u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d>
                                </m:e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d>
                                </m:e>
                                <m:e>
                                  <m:r>
                                    <m:t xml:space="preserve">K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d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e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vu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Text Box 18"/>
          <p:cNvSpPr/>
          <p:nvPr/>
        </p:nvSpPr>
        <p:spPr>
          <a:xfrm>
            <a:off x="1371600" y="4772160"/>
            <a:ext cx="648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 kind of experimental desig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minimization of errors o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minimization of predictio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inimization of errors o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-optimality criteri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Minimization of the confidence domain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Maximization of Determinant(X</a:t>
            </a:r>
            <a:r>
              <a:rPr b="1" lang="fr-FR" sz="2400" spc="-1" strike="noStrike" baseline="30000">
                <a:solidFill>
                  <a:srgbClr val="f4171f"/>
                </a:solidFill>
                <a:latin typeface="Arial"/>
              </a:rPr>
              <a:t>T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-optimality criteria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Minimization of the sum of the square of axis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Minimization of Trace((X</a:t>
            </a:r>
            <a:r>
              <a:rPr b="1" lang="fr-FR" sz="2400" spc="-1" strike="noStrike" baseline="30000">
                <a:solidFill>
                  <a:srgbClr val="f4171f"/>
                </a:solidFill>
                <a:latin typeface="Arial"/>
              </a:rPr>
              <a:t>T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X)</a:t>
            </a:r>
            <a:r>
              <a:rPr b="1" lang="fr-FR" sz="2400" spc="-1" strike="noStrike" baseline="30000">
                <a:solidFill>
                  <a:srgbClr val="f4171f"/>
                </a:solidFill>
                <a:latin typeface="Arial"/>
              </a:rPr>
              <a:t>-1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-optimality criteri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Minimization of the higher length axe of the elli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Maximization of the smaller eighenvalue of X</a:t>
            </a:r>
            <a:r>
              <a:rPr b="1" lang="fr-FR" sz="2400" spc="-1" strike="noStrike" baseline="30000">
                <a:solidFill>
                  <a:srgbClr val="f4171f"/>
                </a:solidFill>
                <a:latin typeface="Arial"/>
              </a:rPr>
              <a:t>T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inimization of errors o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blem with D-optimality (the most popular criteria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Correlation appea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AutoShape 4"/>
          <p:cNvCxnSpPr/>
          <p:nvPr/>
        </p:nvCxnSpPr>
        <p:spPr>
          <a:xfrm>
            <a:off x="1676520" y="6019560"/>
            <a:ext cx="62488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Oval 6"/>
          <p:cNvSpPr/>
          <p:nvPr/>
        </p:nvSpPr>
        <p:spPr>
          <a:xfrm rot="19764000">
            <a:off x="2722680" y="3458880"/>
            <a:ext cx="4495680" cy="1359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7989480" y="5762520"/>
            <a:ext cx="38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510920" y="2743200"/>
            <a:ext cx="38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21"/>
          <p:cNvCxnSpPr/>
          <p:nvPr/>
        </p:nvCxnSpPr>
        <p:spPr>
          <a:xfrm flipV="1">
            <a:off x="1676160" y="3351960"/>
            <a:ext cx="1080" cy="2667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Oval 22"/>
          <p:cNvSpPr/>
          <p:nvPr/>
        </p:nvSpPr>
        <p:spPr>
          <a:xfrm rot="19741200">
            <a:off x="2971800" y="4038120"/>
            <a:ext cx="3962520" cy="228600"/>
          </a:xfrm>
          <a:prstGeom prst="ellipse">
            <a:avLst/>
          </a:prstGeom>
          <a:noFill/>
          <a:ln w="38160">
            <a:solidFill>
              <a:srgbClr val="0c1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6403320" y="3886200"/>
            <a:ext cx="216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c18f4"/>
                </a:solidFill>
                <a:latin typeface="Arial"/>
              </a:rPr>
              <a:t>Area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c18f4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c18f4"/>
                </a:solidFill>
                <a:latin typeface="Arial"/>
              </a:rPr>
              <a:t>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c18f4"/>
                </a:solidFill>
                <a:latin typeface="Arial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c18f4"/>
                </a:solidFill>
                <a:latin typeface="Arial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inimization of errors o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rrector for D-optimalit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Maximization of the ratio between the smaller and the higher axis of the confidence domain (ellip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Maximization of the ratio between the smaller and the higher eighenvalues of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X</a:t>
            </a:r>
            <a:r>
              <a:rPr b="1" lang="fr-FR" sz="2400" spc="-1" strike="noStrike" baseline="30000">
                <a:solidFill>
                  <a:srgbClr val="f4171f"/>
                </a:solidFill>
                <a:latin typeface="Arial"/>
              </a:rPr>
              <a:t>T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use of the corrector permit to increase the number of freedom degree for parametric identification and the number of data for model 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replication experiments are chosen independa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inimization of predictio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-optimality criteri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Minimization of the integral of prediction error variance on all the experimental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Minimization of the integral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-optimality criteria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Minimization of the sum of variances on chosen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Minimiza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-optimality criteri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Minimization of the higher prediction error variance on the experimental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MaxMini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5197320" y="2971800"/>
                <a:ext cx="31086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x} {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5"/>
              <p:cNvSpPr txBox="1"/>
              <p:nvPr/>
            </p:nvSpPr>
            <p:spPr>
              <a:xfrm>
                <a:off x="3124080" y="4191120"/>
                <a:ext cx="3027600" cy="90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u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2438280" y="6019920"/>
                <a:ext cx="24386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inimization of predictio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blem with optimality criteria of prediction error minimiz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Mountains and vall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AutoShape 4"/>
          <p:cNvCxnSpPr/>
          <p:nvPr/>
        </p:nvCxnSpPr>
        <p:spPr>
          <a:xfrm>
            <a:off x="1676520" y="6019560"/>
            <a:ext cx="62488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6"/>
          <p:cNvSpPr/>
          <p:nvPr/>
        </p:nvSpPr>
        <p:spPr>
          <a:xfrm>
            <a:off x="5735520" y="556272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rimental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679040" y="3200400"/>
            <a:ext cx="34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ediction error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AutoShape 8"/>
          <p:cNvCxnSpPr/>
          <p:nvPr/>
        </p:nvCxnSpPr>
        <p:spPr>
          <a:xfrm flipV="1">
            <a:off x="1676160" y="3351960"/>
            <a:ext cx="1080" cy="2667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AutoShape 11"/>
          <p:cNvCxnSpPr/>
          <p:nvPr/>
        </p:nvCxnSpPr>
        <p:spPr>
          <a:xfrm flipV="1">
            <a:off x="1676520" y="3885480"/>
            <a:ext cx="2591280" cy="2134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AutoShape 12"/>
          <p:cNvSpPr/>
          <p:nvPr/>
        </p:nvSpPr>
        <p:spPr>
          <a:xfrm>
            <a:off x="4343400" y="3886200"/>
            <a:ext cx="2666880" cy="1676520"/>
          </a:xfrm>
          <a:custGeom>
            <a:avLst/>
            <a:gdLst>
              <a:gd name="textAreaLeft" fmla="*/ 0 w 2666880"/>
              <a:gd name="textAreaRight" fmla="*/ 2666880 w 2666880"/>
              <a:gd name="textAreaTop" fmla="*/ 217080 h 1676520"/>
              <a:gd name="textAreaBottom" fmla="*/ 14594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inimization of predictio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rrector for prediction error optimalit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To obtain a variance surface which is symetric to the experimental domain center (circular surf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The variance must be minimum at the experimental domain center and maximum on its border-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Maximization of the Khuri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Khuri, A.I., 1988. A measure of Rotatability for Surface-Response Designs, Technometrics 30, 95-1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ox, G.E.P., Hunter, J.S., 1957. Multifactor experimental design for exploring response surfaces. Ann. Math. Statist. 28, 195-2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ix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AutoShape 13"/>
          <p:cNvCxnSpPr/>
          <p:nvPr/>
        </p:nvCxnSpPr>
        <p:spPr>
          <a:xfrm>
            <a:off x="1676520" y="6019560"/>
            <a:ext cx="62488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Text Box 15"/>
          <p:cNvSpPr/>
          <p:nvPr/>
        </p:nvSpPr>
        <p:spPr>
          <a:xfrm>
            <a:off x="3658680" y="609588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umber of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458640" y="213372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-efficiency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AutoShape 17"/>
          <p:cNvCxnSpPr/>
          <p:nvPr/>
        </p:nvCxnSpPr>
        <p:spPr>
          <a:xfrm flipV="1">
            <a:off x="1676160" y="2666520"/>
            <a:ext cx="1080" cy="3353760"/>
          </a:xfrm>
          <a:prstGeom prst="straightConnector1">
            <a:avLst/>
          </a:prstGeom>
          <a:ln w="28440">
            <a:solidFill>
              <a:srgbClr val="0c18f4"/>
            </a:solidFill>
            <a:miter/>
            <a:tailEnd len="med" type="triangle" w="med"/>
          </a:ln>
        </p:spPr>
      </p:cxnSp>
      <p:cxnSp>
        <p:nvCxnSpPr>
          <p:cNvPr id="152" name="AutoShape 20"/>
          <p:cNvCxnSpPr/>
          <p:nvPr/>
        </p:nvCxnSpPr>
        <p:spPr>
          <a:xfrm flipV="1">
            <a:off x="7695720" y="2666520"/>
            <a:ext cx="1080" cy="3353760"/>
          </a:xfrm>
          <a:prstGeom prst="straightConnector1">
            <a:avLst/>
          </a:prstGeom>
          <a:ln w="28440">
            <a:solidFill>
              <a:srgbClr val="f4171f"/>
            </a:solidFill>
            <a:miter/>
            <a:tailEnd len="med" type="triangle" w="med"/>
          </a:ln>
        </p:spPr>
      </p:cxnSp>
      <p:sp>
        <p:nvSpPr>
          <p:cNvPr id="153" name="Text Box 21"/>
          <p:cNvSpPr/>
          <p:nvPr/>
        </p:nvSpPr>
        <p:spPr>
          <a:xfrm>
            <a:off x="6527880" y="213372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otatability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rc 22"/>
          <p:cNvSpPr/>
          <p:nvPr/>
        </p:nvSpPr>
        <p:spPr>
          <a:xfrm>
            <a:off x="2666880" y="2895480"/>
            <a:ext cx="4648320" cy="2286000"/>
          </a:xfrm>
          <a:custGeom>
            <a:avLst/>
            <a:gdLst>
              <a:gd name="textAreaLeft" fmla="*/ 0 w 4648320"/>
              <a:gd name="textAreaRight" fmla="*/ 4648680 w 46483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c18f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rc 23"/>
          <p:cNvSpPr/>
          <p:nvPr/>
        </p:nvSpPr>
        <p:spPr>
          <a:xfrm flipH="1">
            <a:off x="2666880" y="3581280"/>
            <a:ext cx="4648320" cy="1905120"/>
          </a:xfrm>
          <a:custGeom>
            <a:avLst/>
            <a:gdLst>
              <a:gd name="textAreaLeft" fmla="*/ 360 w 4648320"/>
              <a:gd name="textAreaRight" fmla="*/ 4649040 w 46483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417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AutoShape 24"/>
          <p:cNvCxnSpPr/>
          <p:nvPr/>
        </p:nvCxnSpPr>
        <p:spPr>
          <a:xfrm>
            <a:off x="4038120" y="2743200"/>
            <a:ext cx="1080" cy="327744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57" name="Text Box 25"/>
          <p:cNvSpPr/>
          <p:nvPr/>
        </p:nvSpPr>
        <p:spPr>
          <a:xfrm>
            <a:off x="3059640" y="213372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ose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6"/>
              <p:cNvSpPr txBox="1"/>
              <p:nvPr/>
            </p:nvSpPr>
            <p:spPr>
              <a:xfrm>
                <a:off x="1752480" y="3184560"/>
                <a:ext cx="205740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ad>
                      <m:deg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g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t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et</m:t>
                            </m:r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pt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rcRect l="0" t="1817" r="8849" b="0"/>
          <a:stretch/>
        </p:blipFill>
        <p:spPr>
          <a:xfrm>
            <a:off x="1428840" y="2500200"/>
            <a:ext cx="6215040" cy="41562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0" y="35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oneTexte 16"/>
          <p:cNvSpPr/>
          <p:nvPr/>
        </p:nvSpPr>
        <p:spPr>
          <a:xfrm>
            <a:off x="1364400" y="1928880"/>
            <a:ext cx="649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elling of polymer blend young mod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Process modelling and optimization aid</a:t>
            </a:r>
            <a:br>
              <a:rPr sz="4400"/>
            </a:br>
            <a:br>
              <a:rPr sz="2000"/>
            </a:br>
            <a:r>
              <a:rPr b="1" lang="fr-FR" sz="3600" spc="-1" strike="noStrike">
                <a:solidFill>
                  <a:srgbClr val="f4171f"/>
                </a:solidFill>
                <a:latin typeface="Arial"/>
              </a:rPr>
              <a:t>Experimental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41911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ONTEIX Christ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fessor of Chem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niversity of Lor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actions and Process Engineering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35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16"/>
          <p:cNvSpPr/>
          <p:nvPr/>
        </p:nvSpPr>
        <p:spPr>
          <a:xfrm>
            <a:off x="1364400" y="1928880"/>
            <a:ext cx="649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elling of polymer blend young mod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214800" y="2428920"/>
          <a:ext cx="5000400" cy="4214880"/>
        </p:xfrm>
        <a:graphic>
          <a:graphicData uri="http://schemas.openxmlformats.org/drawingml/2006/table">
            <a:tbl>
              <a:tblPr/>
              <a:tblGrid>
                <a:gridCol w="1057320"/>
                <a:gridCol w="1036440"/>
                <a:gridCol w="971640"/>
                <a:gridCol w="1028520"/>
                <a:gridCol w="906480"/>
              </a:tblGrid>
              <a:tr h="271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ri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ing conditions or fact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rp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(wt 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 (g/m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 (g/mo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1"/>
          <p:cNvSpPr/>
          <p:nvPr/>
        </p:nvSpPr>
        <p:spPr>
          <a:xfrm>
            <a:off x="571320" y="3753000"/>
            <a:ext cx="177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peri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btained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-optima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riter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35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oneTexte 16"/>
          <p:cNvSpPr/>
          <p:nvPr/>
        </p:nvSpPr>
        <p:spPr>
          <a:xfrm>
            <a:off x="1364400" y="1928880"/>
            <a:ext cx="649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elling of polymer blend young mod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571320" y="3753000"/>
            <a:ext cx="1847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peri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btained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otat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mprov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00240" y="2500200"/>
          <a:ext cx="5280120" cy="3929040"/>
        </p:xfrm>
        <a:graphic>
          <a:graphicData uri="http://schemas.openxmlformats.org/drawingml/2006/table">
            <a:tbl>
              <a:tblPr/>
              <a:tblGrid>
                <a:gridCol w="1116000"/>
                <a:gridCol w="1095480"/>
                <a:gridCol w="1025640"/>
                <a:gridCol w="1085760"/>
                <a:gridCol w="957240"/>
              </a:tblGrid>
              <a:tr h="355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ri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ing conditions or fact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(rp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(wt 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 (g/m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 (g/mo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.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.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.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.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35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oneTexte 16"/>
          <p:cNvSpPr/>
          <p:nvPr/>
        </p:nvSpPr>
        <p:spPr>
          <a:xfrm>
            <a:off x="1364400" y="1928880"/>
            <a:ext cx="649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elling of polymer blend young mod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570960" y="3750120"/>
            <a:ext cx="175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pl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peri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71880" y="2676600"/>
          <a:ext cx="5214960" cy="2824200"/>
        </p:xfrm>
        <a:graphic>
          <a:graphicData uri="http://schemas.openxmlformats.org/drawingml/2006/table">
            <a:tbl>
              <a:tblPr/>
              <a:tblGrid>
                <a:gridCol w="1101600"/>
                <a:gridCol w="1082880"/>
                <a:gridCol w="1012680"/>
                <a:gridCol w="1073160"/>
                <a:gridCol w="944640"/>
              </a:tblGrid>
              <a:tr h="433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ri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ing conditions or fact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rp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(wt 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 (g/m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 (g/mo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2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r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Model structure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 : Taguchi or Hadamar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Multi linear model (on each factor and parame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Non linear models (on the parameters)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X-optimality (research in progr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lassical experiment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For linear models on parameters (not on fac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 flipV="1">
            <a:off x="6553080" y="2894760"/>
            <a:ext cx="533520" cy="381240"/>
          </a:xfrm>
          <a:custGeom>
            <a:avLst/>
            <a:gdLst>
              <a:gd name="textAreaLeft" fmla="*/ 0 w 533520"/>
              <a:gd name="textAreaRight" fmla="*/ 457560 w 533520"/>
              <a:gd name="textAreaTop" fmla="*/ 253800 h 381240"/>
              <a:gd name="textAreaBottom" fmla="*/ 38124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f417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3"/>
          <p:cNvSpPr/>
          <p:nvPr/>
        </p:nvSpPr>
        <p:spPr>
          <a:xfrm flipV="1">
            <a:off x="6629400" y="411408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200 h 609480"/>
              <a:gd name="textAreaBottom" fmla="*/ 4417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417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8"/>
          <p:cNvSpPr/>
          <p:nvPr/>
        </p:nvSpPr>
        <p:spPr>
          <a:xfrm flipV="1">
            <a:off x="5257800" y="5334120"/>
            <a:ext cx="533520" cy="380880"/>
          </a:xfrm>
          <a:custGeom>
            <a:avLst/>
            <a:gdLst>
              <a:gd name="textAreaLeft" fmla="*/ 0 w 533520"/>
              <a:gd name="textAreaRight" fmla="*/ 457560 w 533520"/>
              <a:gd name="textAreaTop" fmla="*/ 254520 h 380880"/>
              <a:gd name="textAreaBottom" fmla="*/ 381600 h 3808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f417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3352680" y="2057400"/>
            <a:ext cx="1524240" cy="228600"/>
          </a:xfrm>
          <a:prstGeom prst="leftArrow">
            <a:avLst>
              <a:gd name="adj1" fmla="val 50000"/>
              <a:gd name="adj2" fmla="val 166693"/>
            </a:avLst>
          </a:prstGeom>
          <a:solidFill>
            <a:srgbClr val="f417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r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ctors  : x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= (f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… f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ers :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= (a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… a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ers linear models structu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easurements : Y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= (y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… y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x</a:t>
            </a:r>
            <a:r>
              <a:rPr b="1" lang="fr-FR" sz="2400" spc="-1" strike="noStrike" baseline="-25000">
                <a:solidFill>
                  <a:srgbClr val="0c18f4"/>
                </a:solidFill>
                <a:latin typeface="Arial"/>
              </a:rPr>
              <a:t>j 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is the corresponding factors vector to y</a:t>
            </a:r>
            <a:r>
              <a:rPr b="1" lang="fr-FR" sz="2400" spc="-1" strike="noStrike" baseline="-25000">
                <a:solidFill>
                  <a:srgbClr val="0c18f4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9"/>
              <p:cNvSpPr txBox="1"/>
              <p:nvPr/>
            </p:nvSpPr>
            <p:spPr>
              <a:xfrm>
                <a:off x="2590920" y="3987720"/>
                <a:ext cx="23302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r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2209680" y="1871640"/>
                <a:ext cx="5257800" cy="47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rPr>
                            <m:lit/>
                            <m:nor/>
                          </m:rPr>
                          <m:t xml:space="preserve">ediction</m:t>
                        </m:r>
                        <m:r>
                          <m:t xml:space="preserve">: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Xq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e>
                                  <m:r>
                                    <m:t xml:space="preserve">K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e>
                                  <m:r>
                                    <m:t xml:space="preserve">K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  <m:e>
                                  <m:r>
                                    <m:t xml:space="preserve">M</m:t>
                                  </m:r>
                                </m:e>
                                <m:e>
                                  <m:r>
                                    <m:t xml:space="preserve">O</m:t>
                                  </m:r>
                                </m:e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e>
                                  <m:r>
                                    <m:t xml:space="preserve">K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uth</m:t>
                        </m:r>
                        <m:r>
                          <m:t xml:space="preserve">: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q</m:t>
                            </m:r>
                          </m:e>
                          <m:sup/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easurement</m:t>
                        </m:r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</m:e>
                      <m:e>
                        <m:r>
                          <m:t xml:space="preserve">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/>
                                </m:sSup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p/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r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ric identific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fidence domain of parameter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1447920" y="3579840"/>
                <a:ext cx="6211800" cy="21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/>
                            </m:sSup>
                          </m:e>
                        </m:d>
                        <m:r>
                          <m:t xml:space="preserve">≤</m:t>
                        </m:r>
                        <m:r>
                          <m:t xml:space="preserve">N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5"/>
              <p:cNvSpPr txBox="1"/>
              <p:nvPr/>
            </p:nvSpPr>
            <p:spPr>
              <a:xfrm>
                <a:off x="2438280" y="2438280"/>
                <a:ext cx="24386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r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AutoShape 7"/>
          <p:cNvCxnSpPr/>
          <p:nvPr/>
        </p:nvCxnSpPr>
        <p:spPr>
          <a:xfrm>
            <a:off x="1676520" y="6019560"/>
            <a:ext cx="62488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8"/>
          <p:cNvCxnSpPr/>
          <p:nvPr/>
        </p:nvCxnSpPr>
        <p:spPr>
          <a:xfrm flipV="1">
            <a:off x="1676160" y="2285640"/>
            <a:ext cx="1080" cy="373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Oval 9"/>
          <p:cNvSpPr/>
          <p:nvPr/>
        </p:nvSpPr>
        <p:spPr>
          <a:xfrm rot="19764000">
            <a:off x="2514240" y="3517560"/>
            <a:ext cx="4724280" cy="1371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AutoShape 10"/>
          <p:cNvCxnSpPr/>
          <p:nvPr/>
        </p:nvCxnSpPr>
        <p:spPr>
          <a:xfrm>
            <a:off x="2817360" y="5333760"/>
            <a:ext cx="2520" cy="686520"/>
          </a:xfrm>
          <a:prstGeom prst="straightConnector1">
            <a:avLst/>
          </a:prstGeom>
          <a:ln w="19080">
            <a:solidFill>
              <a:srgbClr val="f4171f"/>
            </a:solidFill>
            <a:miter/>
          </a:ln>
        </p:spPr>
      </p:cxnSp>
      <p:cxnSp>
        <p:nvCxnSpPr>
          <p:cNvPr id="68" name="AutoShape 11"/>
          <p:cNvCxnSpPr/>
          <p:nvPr/>
        </p:nvCxnSpPr>
        <p:spPr>
          <a:xfrm>
            <a:off x="6933960" y="3067200"/>
            <a:ext cx="1080" cy="2953440"/>
          </a:xfrm>
          <a:prstGeom prst="straightConnector1">
            <a:avLst/>
          </a:prstGeom>
          <a:ln w="19080">
            <a:solidFill>
              <a:srgbClr val="f4171f"/>
            </a:solidFill>
            <a:miter/>
          </a:ln>
        </p:spPr>
      </p:cxnSp>
      <p:sp>
        <p:nvSpPr>
          <p:cNvPr id="69" name="Text Box 12"/>
          <p:cNvSpPr/>
          <p:nvPr/>
        </p:nvSpPr>
        <p:spPr>
          <a:xfrm>
            <a:off x="3508920" y="6019920"/>
            <a:ext cx="27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4171f"/>
                </a:solidFill>
                <a:latin typeface="Arial"/>
              </a:rPr>
              <a:t>Confidence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7989480" y="5762520"/>
            <a:ext cx="38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1510920" y="1828800"/>
            <a:ext cx="38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AutoShape 15"/>
          <p:cNvCxnSpPr/>
          <p:nvPr/>
        </p:nvCxnSpPr>
        <p:spPr>
          <a:xfrm>
            <a:off x="1676520" y="4114800"/>
            <a:ext cx="4496400" cy="2160"/>
          </a:xfrm>
          <a:prstGeom prst="straightConnector1">
            <a:avLst/>
          </a:prstGeom>
          <a:ln w="19080">
            <a:solidFill>
              <a:srgbClr val="0c18f4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73" name="Object 16"/>
              <p:cNvSpPr txBox="1"/>
              <p:nvPr/>
            </p:nvSpPr>
            <p:spPr>
              <a:xfrm>
                <a:off x="1066680" y="3809880"/>
                <a:ext cx="4748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" name="Text Box 17"/>
          <p:cNvSpPr/>
          <p:nvPr/>
        </p:nvSpPr>
        <p:spPr>
          <a:xfrm>
            <a:off x="5236560" y="3124080"/>
            <a:ext cx="146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c18f4"/>
                </a:solidFill>
                <a:latin typeface="Arial"/>
              </a:rPr>
              <a:t>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c18f4"/>
                </a:solidFill>
                <a:latin typeface="Arial"/>
              </a:rPr>
              <a:t>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c18f4"/>
                </a:solidFill>
                <a:latin typeface="Arial"/>
              </a:rPr>
              <a:t>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18"/>
          <p:cNvCxnSpPr/>
          <p:nvPr/>
        </p:nvCxnSpPr>
        <p:spPr>
          <a:xfrm flipH="1">
            <a:off x="1676160" y="4114800"/>
            <a:ext cx="2134080" cy="2160"/>
          </a:xfrm>
          <a:prstGeom prst="straightConnector1">
            <a:avLst/>
          </a:prstGeom>
          <a:ln w="19080">
            <a:solidFill>
              <a:srgbClr val="f4171f"/>
            </a:solidFill>
            <a:miter/>
          </a:ln>
        </p:spPr>
      </p:cxnSp>
      <p:cxnSp>
        <p:nvCxnSpPr>
          <p:cNvPr id="76" name="AutoShape 19"/>
          <p:cNvCxnSpPr/>
          <p:nvPr/>
        </p:nvCxnSpPr>
        <p:spPr>
          <a:xfrm>
            <a:off x="3809520" y="4114800"/>
            <a:ext cx="1080" cy="381600"/>
          </a:xfrm>
          <a:prstGeom prst="straightConnector1">
            <a:avLst/>
          </a:prstGeom>
          <a:ln w="19080">
            <a:solidFill>
              <a:srgbClr val="0c18f4"/>
            </a:solidFill>
            <a:miter/>
          </a:ln>
        </p:spPr>
      </p:cxnSp>
      <p:cxnSp>
        <p:nvCxnSpPr>
          <p:cNvPr id="77" name="AutoShape 20"/>
          <p:cNvCxnSpPr/>
          <p:nvPr/>
        </p:nvCxnSpPr>
        <p:spPr>
          <a:xfrm>
            <a:off x="6171840" y="4114800"/>
            <a:ext cx="1080" cy="381600"/>
          </a:xfrm>
          <a:prstGeom prst="straightConnector1">
            <a:avLst/>
          </a:prstGeom>
          <a:ln w="19080">
            <a:solidFill>
              <a:srgbClr val="0c18f4"/>
            </a:solidFill>
            <a:miter/>
          </a:ln>
        </p:spPr>
      </p:cxnSp>
      <p:sp>
        <p:nvSpPr>
          <p:cNvPr id="78" name="Text Box 21"/>
          <p:cNvSpPr/>
          <p:nvPr/>
        </p:nvSpPr>
        <p:spPr>
          <a:xfrm>
            <a:off x="2133720" y="1828800"/>
            <a:ext cx="65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f the reduced confidence interval contains 0 the value of the corresponding parameter can be fixed equal to 0 (model reduc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7071120" y="3017880"/>
            <a:ext cx="153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llip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r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3"/>
          <p:cNvGraphicFramePr/>
          <p:nvPr/>
        </p:nvGraphicFramePr>
        <p:xfrm>
          <a:off x="214200" y="2714760"/>
          <a:ext cx="8715600" cy="55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2714760"/>
                    <a:ext cx="87156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Rectangle 5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21"/>
          <p:cNvSpPr/>
          <p:nvPr/>
        </p:nvSpPr>
        <p:spPr>
          <a:xfrm>
            <a:off x="1685520" y="2071800"/>
            <a:ext cx="58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al confidence interval of a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oneTexte 22"/>
          <p:cNvSpPr/>
          <p:nvPr/>
        </p:nvSpPr>
        <p:spPr>
          <a:xfrm>
            <a:off x="1317960" y="4000680"/>
            <a:ext cx="65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duced confidence interval of a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6"/>
          <p:cNvGraphicFramePr/>
          <p:nvPr/>
        </p:nvGraphicFramePr>
        <p:xfrm>
          <a:off x="1116000" y="4657680"/>
          <a:ext cx="681372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4657680"/>
                    <a:ext cx="68137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r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21"/>
          <p:cNvSpPr/>
          <p:nvPr/>
        </p:nvSpPr>
        <p:spPr>
          <a:xfrm>
            <a:off x="533520" y="1928880"/>
            <a:ext cx="80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 : modelling of polymer blend young mod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14280" y="2428920"/>
          <a:ext cx="6357960" cy="4214880"/>
        </p:xfrm>
        <a:graphic>
          <a:graphicData uri="http://schemas.openxmlformats.org/drawingml/2006/table">
            <a:tbl>
              <a:tblPr/>
              <a:tblGrid>
                <a:gridCol w="986040"/>
                <a:gridCol w="896760"/>
                <a:gridCol w="1035360"/>
                <a:gridCol w="896760"/>
                <a:gridCol w="896760"/>
                <a:gridCol w="897120"/>
                <a:gridCol w="749160"/>
              </a:tblGrid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ici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ues o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9.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.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8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4.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5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98.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8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9.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.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8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80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3.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82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4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5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04.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3.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40.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9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5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0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9.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90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9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37.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2.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7.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.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55.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9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14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5.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6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4.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46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78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7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.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1.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07.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4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90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.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71.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.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1.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.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43.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8.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10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76.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.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.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17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6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.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16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8.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7.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Object 9"/>
          <p:cNvGraphicFramePr/>
          <p:nvPr/>
        </p:nvGraphicFramePr>
        <p:xfrm>
          <a:off x="4324320" y="2428920"/>
          <a:ext cx="176400" cy="2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4320" y="2428920"/>
                    <a:ext cx="17640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3429000" y="2428920"/>
            <a:ext cx="142920" cy="209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928960" y="2428920"/>
            <a:ext cx="142920" cy="209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5"/>
          <a:stretch/>
        </p:blipFill>
        <p:spPr>
          <a:xfrm>
            <a:off x="5286240" y="2428920"/>
            <a:ext cx="320760" cy="285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6"/>
          <a:stretch/>
        </p:blipFill>
        <p:spPr>
          <a:xfrm>
            <a:off x="6215040" y="2428920"/>
            <a:ext cx="357120" cy="307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9:33:56Z</dcterms:created>
  <dc:creator>Sylvette FONTEIX</dc:creator>
  <dc:description/>
  <dc:language>en-US</dc:language>
  <cp:lastModifiedBy>Christian Fonteix</cp:lastModifiedBy>
  <dcterms:modified xsi:type="dcterms:W3CDTF">2012-03-13T16:41:36Z</dcterms:modified>
  <cp:revision>65</cp:revision>
  <dc:subject/>
  <dc:title>Process modelling and optimisation aid</dc:title>
</cp:coreProperties>
</file>